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7B7-6C2A-47EC-9C93-B00F1115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644-63B7-4A70-90C8-882F2943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B80-EE01-456B-BB3C-D22A6FBE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BFD-FDB0-4B42-B402-5AEDB582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F83-05BD-45CD-8046-8574AFF4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9FC-AC01-4596-8C7B-D8A371A2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93B-315F-4042-8721-93E2A12D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75D-1600-4267-84AF-CB737034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9E4-C617-40C8-B318-08BA9319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2DC-421E-4D29-BEDA-995AA455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FAC-ED1B-451E-B29A-4D328D7A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FB9-DE86-46DE-A043-37D2359E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675C-9DE6-449C-96B2-A19D9909AB7B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1341360"/>
            <a:ext cx="4135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Двете есхатологични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жетви на земят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4284720" y="260280"/>
            <a:ext cx="4159080" cy="4200480"/>
            <a:chOff x="4284720" y="260280"/>
            <a:chExt cx="4159080" cy="4200480"/>
          </a:xfrm>
        </p:grpSpPr>
        <p:sp>
          <p:nvSpPr>
            <p:cNvPr id="63" name=""/>
            <p:cNvSpPr txBox="1"/>
            <p:nvPr/>
          </p:nvSpPr>
          <p:spPr>
            <a:xfrm>
              <a:off x="4284720" y="260280"/>
              <a:ext cx="2495520" cy="103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66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Вярата</a:t>
              </a:r>
              <a:endPara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5940360" y="1773360"/>
              <a:ext cx="216000" cy="77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66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в</a:t>
              </a:r>
              <a:endPara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6834240" y="3346560"/>
              <a:ext cx="1609560" cy="11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Исус</a:t>
              </a:r>
              <a:endPara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340000" y="816120"/>
            <a:ext cx="20383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алатяни 2:2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2708280"/>
            <a:ext cx="4171680" cy="289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Съразпнах се с Христос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сега вече не аз живея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 Христос живее в мен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 животът, който сег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живея в тялото, живея г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 вяра, която е в Божия Син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йто ме възлюби и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едаде Себе Си за мен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908000" y="83520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1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920" y="2349360"/>
            <a:ext cx="463860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чух глас от небето, кой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зваше: Напиши: Блажен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сега нататък мъртвите, кои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мират в Господа. Да! - казв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ъхът. - За да си починат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удовете си; защото дел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м следват след тях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82160" cy="688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343240" y="836640"/>
            <a:ext cx="22287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наил 12: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4000" y="2852640"/>
            <a:ext cx="501012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огава множеството от спящ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 пръста на земята ще се събудят -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дни за вечен живот, а други -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 срам и вечно презрение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1403280" y="1360440"/>
            <a:ext cx="44197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лън Уайт - " Великата борба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00" y="2511360"/>
            <a:ext cx="6178680" cy="3013200"/>
            <a:chOff x="108000" y="2511360"/>
            <a:chExt cx="6178680" cy="3013200"/>
          </a:xfrm>
        </p:grpSpPr>
        <p:sp>
          <p:nvSpPr>
            <p:cNvPr id="80" name=""/>
            <p:cNvSpPr txBox="1"/>
            <p:nvPr/>
          </p:nvSpPr>
          <p:spPr>
            <a:xfrm>
              <a:off x="114480" y="2511360"/>
              <a:ext cx="6172200" cy="14479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Гробовете се разтварят " и множествот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от спящите в пръстта на земята ще се 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ъбудят,едни за вечен живот, а едни з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рам и вечно презрение" /Дан. 12:2/.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108000" y="4076640"/>
              <a:ext cx="5981760" cy="14479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Умрелите с вяра в третата ангелска вест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злизат от гроба прославени, за д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чуят Божия завет на мир заедно с тези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които са пазили Неговия Закон."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82160" cy="688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195640" y="83520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1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2060640"/>
            <a:ext cx="494352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видях, и, ето, бял облак и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блака седеше Един, Кой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личаше на Човешкия син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маше на главата си златен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енец, а в ръката си остър сърп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195640" y="83520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1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2060640"/>
            <a:ext cx="512424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друг ангел излезе от храма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икаше със силен глас на тоз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йто седеше на облака: Простр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ърпа Си и жъни, защото 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станал часът да жънеш, понеж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емната жътва е презряла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195640" y="83520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1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920" y="2060640"/>
            <a:ext cx="5086080" cy="1085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така, Онзи, Който седеш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облака, хвърли сърпа си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емята; и земята беше пожъната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195640" y="83664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1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8440" y="1911240"/>
            <a:ext cx="4867200" cy="1086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друг ангел излезе от храм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йто е на небето, като държеш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той остър сърп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868400" y="91296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1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628640"/>
            <a:ext cx="5410080" cy="1086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ук е нужно търпението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етиите, на тези, които пазя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ожиите заповеди и вярата в Исус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195640" y="83664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1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58720" y="1911240"/>
            <a:ext cx="5067360" cy="3036960"/>
            <a:chOff x="558720" y="1911240"/>
            <a:chExt cx="5067360" cy="3036960"/>
          </a:xfrm>
        </p:grpSpPr>
        <p:sp>
          <p:nvSpPr>
            <p:cNvPr id="105" name=""/>
            <p:cNvSpPr txBox="1"/>
            <p:nvPr/>
          </p:nvSpPr>
          <p:spPr>
            <a:xfrm>
              <a:off x="568440" y="1911240"/>
              <a:ext cx="5057640" cy="14479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Още и друг ангел, който имаш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власт над огъня, излезе от олтар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 извика със силен глас на този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който държеше острия сърп; и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558720" y="3500280"/>
              <a:ext cx="4638600" cy="14479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каза: Простри острия си сърп и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обери гроздовете на земнот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лозе, защото гроздето му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е вече узряло."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195640" y="83664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1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68440" y="1911240"/>
            <a:ext cx="468612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ангелът хвърли сърпа си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емята, обра земното лозе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хвърли набраното в големи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лин на Божия гняв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195640" y="83664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2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68440" y="1911240"/>
            <a:ext cx="456228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линът бе изтъпкан вън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рада и кръв потече от лина д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юздите на конете върху едн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азстояние от хиляда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щестстотин стади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562120" y="836640"/>
            <a:ext cx="163836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салм 50: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4160" y="1916280"/>
            <a:ext cx="323820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Нашия Бог ще дойд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няма да мълчи;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ма пред Него огън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глъщащ и окол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го силна буря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48434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068720" y="0"/>
            <a:ext cx="151128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80392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843280" y="803160"/>
            <a:ext cx="19908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Филипяни 1: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1989000"/>
            <a:ext cx="432432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Павел и Тимотей, слуги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ус Христос, до всичк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етии в Христос Исус, кои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а във Филипи, заедн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 епископите и дяконит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434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068720" y="-27000"/>
            <a:ext cx="151128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80392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843280" y="803160"/>
            <a:ext cx="24001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ремия 22:2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5640" y="2349360"/>
            <a:ext cx="3714840" cy="1086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О, земьо, земьо, земь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уй словото Господн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651640" y="44280"/>
            <a:ext cx="3492360" cy="1368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66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796000" y="549360"/>
            <a:ext cx="3124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едва: 9 януар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357720"/>
            <a:ext cx="4427640" cy="3500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66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46240" y="5365800"/>
            <a:ext cx="403848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елюдия към язвит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ървите пет язв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148360" y="3338640"/>
            <a:ext cx="3495600" cy="31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25560">
                  <a:solidFill>
                    <a:srgbClr val="ffff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Честито</a:t>
            </a:r>
            <a:endParaRPr b="1" i="1" lang="en-US" sz="6600" spc="1" strike="noStrike">
              <a:ln w="25560">
                <a:solidFill>
                  <a:srgbClr val="ffff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25560">
                  <a:solidFill>
                    <a:srgbClr val="ffff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Рождество</a:t>
            </a:r>
            <a:endParaRPr b="1" i="1" lang="en-US" sz="6600" spc="1" strike="noStrike">
              <a:ln w="25560">
                <a:solidFill>
                  <a:srgbClr val="ffff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25560">
                  <a:solidFill>
                    <a:srgbClr val="ffff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Христово</a:t>
            </a:r>
            <a:endParaRPr b="1" i="1" lang="en-US" sz="6600" spc="1" strike="noStrike">
              <a:ln w="25560">
                <a:solidFill>
                  <a:srgbClr val="ffff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833560" y="836640"/>
            <a:ext cx="18097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имляни 1: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978200"/>
            <a:ext cx="456228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... до всички в Рим, които с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злюбени от Бога, призован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бъдат светии; Благодат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ир да бъдат с вас от Бог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шия Отец, и Господ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ус Христос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148360" y="189000"/>
            <a:ext cx="1752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тей 24:2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55560" y="4903920"/>
            <a:ext cx="542916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щото ще се появят лъжехрист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лъжепророци,които ще покажа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леми знамения и чудес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ака че да заблудят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ко е възможно и избранит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619280" y="1125360"/>
            <a:ext cx="3333600" cy="3343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" Пазят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Божиите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заповеди "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9:36:45Z</dcterms:created>
  <dc:creator>The Mind</dc:creator>
  <dc:description/>
  <dc:language>en-US</dc:language>
  <cp:lastModifiedBy>Vlady</cp:lastModifiedBy>
  <dcterms:modified xsi:type="dcterms:W3CDTF">2004-12-26T12:33:00Z</dcterms:modified>
  <cp:revision>10</cp:revision>
  <dc:subject/>
  <dc:title>Slide 1</dc:title>
</cp:coreProperties>
</file>